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0A23-0FF1-496B-B0E1-2B4025DE4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18CC-0FCD-4AFA-B70D-ECC528CBB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ACCD-DA10-466D-835D-5FB17925A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1C92-7E8F-461A-947B-C578DD8F0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855F-EC9C-4C6D-A916-D678042D66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86FE-16CD-47DF-852E-F30B412B5D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F4EA-8300-4E3A-BA62-AF2CFB05B0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235D-BED2-490D-9F11-6CB17E0BD8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EC78-62EC-4A05-8759-CDB7066A56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8AB8-D165-4BDD-AF45-40537EF6EE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E195-0939-44A2-9284-E7BC5831AB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4D38-C627-4849-B14B-D02776EC1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CB22-96FB-4B72-BFE6-2A17D4F118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8B47-5573-4B9B-950A-C71589E059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3A1D-66AF-46C6-B841-62095E3E95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D4EC-5D12-464F-BBFC-E7B0DEC1A7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3683-9048-4467-BF34-3440359337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DC70-02BD-440B-B1A8-B41B8C515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4DDC-D775-4DA9-A821-61ADD79FC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1555-3893-4694-9B2B-46EE65AE8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E40E-48CA-4FAB-8200-CFFC9FBB5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2248-48A2-4CA2-9DB9-415287289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6333-6F17-46F0-A9F6-80669D449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D6A1-8CD5-4BBE-B722-51B717409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9435-DE33-4B0D-BB83-D25913395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3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A8F1-D878-438B-85BD-83BF655D8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2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troduction to C++ Programming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co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iling and Running the Templat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co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tion to C+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co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ilation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66960" y="1673280"/>
            <a:ext cx="5408640" cy="4348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70840" y="1142640"/>
            <a:ext cx="36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Lo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3809880"/>
            <a:ext cx="12952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mplyCp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04960" y="4114800"/>
            <a:ext cx="3886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410080"/>
            <a:ext cx="12952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7640" y="5562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6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05040" y="1428840"/>
            <a:ext cx="5533920" cy="4835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7000" y="1066680"/>
            <a:ext cx="45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32 Application Wiz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20040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lication Set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752480" y="3352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05040" y="1428840"/>
            <a:ext cx="5533920" cy="4835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96080" y="1066680"/>
            <a:ext cx="70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Sett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32 Application Wiz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057400"/>
            <a:ext cx="16002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ole applic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button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2590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130320" y="4038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886200"/>
            <a:ext cx="10670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ty pro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ox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19320" y="4267080"/>
            <a:ext cx="2361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7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8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el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l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663920" cy="1847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69040" y="121932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 Explor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in Visual Studio .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82880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28600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2819520"/>
            <a:ext cx="2209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urce Fi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9810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2438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352680" y="28954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5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6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66960" y="1673280"/>
            <a:ext cx="5408640" cy="4348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98120" y="1219320"/>
            <a:ext cx="49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Existing Item - 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98108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.cp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28600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7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8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40040" y="2133720"/>
            <a:ext cx="1663920" cy="1847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74080" y="1461960"/>
            <a:ext cx="65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 Explor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after add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.c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297180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.cp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27672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9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0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everal files in the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ncb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information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telliSe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sln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information about the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vcproj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information regarding the pro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suo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00400" y="2448000"/>
            <a:ext cx="4543200" cy="279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94520" y="1547640"/>
            <a:ext cx="32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5445000"/>
            <a:ext cx="2209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p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286000" y="47239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41972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sl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133720" y="4495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74320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vcpro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2895480"/>
            <a:ext cx="533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7" dur="1" fill="hold"/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8" dur="1" fill="hold"/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57600" y="1290600"/>
            <a:ext cx="4809960" cy="2409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machine code created by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executable file created after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various files that store debugg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8920" y="958680"/>
            <a:ext cx="48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rectory after compi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3006720"/>
            <a:ext cx="2895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ly creat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bu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315900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9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0" dur="1" fill="hold"/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&gt; Build 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ecutabl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 is used to run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C++ co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a C++ statement that displays a message on the scre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 a C++ appl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 an appl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scape seque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nd correct syntax err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4552920" cy="3164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95240" y="1219320"/>
            <a:ext cx="57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ing the contents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809880"/>
            <a:ext cx="2286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l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x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962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1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2" dur="1" fill="hold"/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66880" y="2200320"/>
            <a:ext cx="5610240" cy="590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bug &gt; Start Without Debu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does not produc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3080" y="1415880"/>
            <a:ext cx="54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templa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12720" y="1219320"/>
            <a:ext cx="6116760" cy="25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appears similar but every text editor and IDE is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8280" y="838080"/>
            <a:ext cx="72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C++ source code in Visual Studio .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075040" y="1909800"/>
            <a:ext cx="6230880" cy="1171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two forward slashes 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read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-line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-of-line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gnores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14300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ing comment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C++ source code in Visual Studio .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0923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line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224460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4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22520" y="1995480"/>
            <a:ext cx="6240600" cy="1000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 lines beginning with a pound sign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d before the source code is comp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cessary for input /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getting to inclu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 program that uses input or output is 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45360" y="1187280"/>
            <a:ext cx="35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rocessor direc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or dir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286000" y="25146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6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370240" y="1919160"/>
            <a:ext cx="6240240" cy="1152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std (standard)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es C++ Standard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9400" y="1157400"/>
            <a:ext cx="29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rec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66688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828800" y="2666880"/>
            <a:ext cx="1219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7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8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09680" y="1590840"/>
            <a:ext cx="6240600" cy="1809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y point of ever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indicates successful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8680" y="1004760"/>
            <a:ext cx="36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828800"/>
            <a:ext cx="1524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205740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819520"/>
            <a:ext cx="1828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ing the function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81080" y="259056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7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8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return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 with left br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dy of th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d with right br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s case 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incorrect capitalization for identifiers and keywords is an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applications input / outpu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ain C++ input come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andard input stream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tied to keyboard but can be tied to othe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outpu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andard output stream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tied to monitor but can be tied to othe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51160" y="1371600"/>
            <a:ext cx="6107040" cy="1819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ble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generates code to perform a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a stream of characters to the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colon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 ter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getting the semicolon at the end of a statement is 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9640" y="990720"/>
            <a:ext cx="68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ng a C++ statement that displays text when execu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09232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ing a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224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9" dur="1" fill="hold"/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0" dur="1" fill="hold"/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1720" y="2057400"/>
            <a:ext cx="7539120" cy="149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characters in C++ that perform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and u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subtrac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multiplica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re examples of C++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that require only one operand such as the preincre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such as multiplicati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divisi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hat require two operands to perform their 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quence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66880" y="2200320"/>
            <a:ext cx="5610240" cy="590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16760" y="1461960"/>
            <a:ext cx="58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displa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does not ignore whitespac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litting a statement in the middle of a string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cape character is backslas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escape sequences to be read by compiler inside string lit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87240" y="1371600"/>
          <a:ext cx="7745400" cy="51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371600"/>
                    <a:ext cx="77454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687240" y="1371600"/>
          <a:ext cx="7643880" cy="50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371600"/>
                    <a:ext cx="76438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17600" y="1752480"/>
            <a:ext cx="6240600" cy="148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 insertion operators resume printing where previous statement has 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reaking up lengthy statements, choose logical break points such as escape sequen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7480" y="1219320"/>
            <a:ext cx="71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multiple stream insertion op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362320"/>
            <a:ext cx="1752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tream insertion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057400" y="24379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057400" y="25905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3" dur="1" fill="hold"/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4" dur="1" fill="hold"/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5" dur="1" fill="hold"/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81080" y="2200320"/>
            <a:ext cx="5610240" cy="590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869400" y="1371600"/>
            <a:ext cx="41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890800" y="2590920"/>
            <a:ext cx="5796000" cy="1527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67960" y="1852560"/>
            <a:ext cx="31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ng newl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2971800"/>
            <a:ext cx="16761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ng a newline to displaye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276720"/>
            <a:ext cx="24386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6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7" dur="1" fill="hold"/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6560" y="457200"/>
            <a:ext cx="21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.cpp (1 of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308400" y="3809880"/>
            <a:ext cx="5302080" cy="108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04920" y="419112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 using a newline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99072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line comments describe the applications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2666880" y="304560"/>
            <a:ext cx="3733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182880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iostream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1447560" y="685800"/>
            <a:ext cx="51051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2666880"/>
            <a:ext cx="2590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ive provides access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838080" y="1143000"/>
            <a:ext cx="46483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457200"/>
            <a:ext cx="23619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14400" y="60948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1066680"/>
            <a:ext cx="2286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a welcome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752480" y="129528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358128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 the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990720" y="28195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6" dur="1" fill="hold"/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7" dur="1" fill="hold"/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of locating and removing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ati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detects errors i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tax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applications to produce erroneous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fixed using a debug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9800" y="2724120"/>
            <a:ext cx="5297400" cy="1084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720" y="2209680"/>
            <a:ext cx="55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514680" y="2743200"/>
            <a:ext cx="5019840" cy="13064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95600" y="1981080"/>
            <a:ext cx="48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listing a syntax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12408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ng semicolon at the end of the statement preceding line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8" dur="1" fill="hold"/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9" dur="1" fill="hold"/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473280" y="2743200"/>
            <a:ext cx="4984920" cy="1139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8560" y="1600200"/>
            <a:ext cx="50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listing a syntax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2438280"/>
            <a:ext cx="28191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rror within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2590920"/>
            <a:ext cx="4876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32767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342900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343400"/>
            <a:ext cx="2895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file containin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429000" y="3581280"/>
            <a:ext cx="3429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6" dur="1" fill="hold"/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7" dur="1" fill="hold"/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86000" y="1743120"/>
            <a:ext cx="6221520" cy="15048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syntax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‘n’ in the last escape sequence in lin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italize ‘r’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6120" y="10666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ing two syntax errors into your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2057400"/>
            <a:ext cx="16761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yntax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22096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810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43680" y="1143000"/>
            <a:ext cx="60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 error messages generated by the compi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828800"/>
            <a:ext cx="2895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372280" cy="1486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4920" y="190512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errors displayed in task list title 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19520" y="21333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3276720"/>
            <a:ext cx="25146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the errors including file name and li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819520" y="297144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6" dur="1" fill="hold"/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7" dur="1" fill="hold"/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506680" y="1676520"/>
            <a:ext cx="5875200" cy="1172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17480" y="1066680"/>
            <a:ext cx="70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 error causes remainder of line to be displayed in cy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198108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rror creates unterminated string (displayed in cya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981080" y="2285640"/>
            <a:ext cx="198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8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9" dur="1" fill="hold"/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ing the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back to your code and fix the syntax errors indicated in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and Prom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22400" y="3105000"/>
            <a:ext cx="5299200" cy="1482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66520" y="2209680"/>
            <a:ext cx="61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 applications can contain many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521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 can contain one or more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33680" y="1952640"/>
            <a:ext cx="5875200" cy="264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84480" y="1793880"/>
            <a:ext cx="477684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10350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828800"/>
            <a:ext cx="1676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44792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Bar (display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sual C++ Projec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981080" y="2666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7339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ypes: 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81080" y="37335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4572000"/>
            <a:ext cx="18288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the new project (your location may be differ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81080" y="4952880"/>
            <a:ext cx="1295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1905120"/>
            <a:ext cx="17524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P .NET Web Appl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05520" y="22860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312408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mplate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43600" y="3352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886200"/>
            <a:ext cx="16765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project select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mplat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105520" y="434340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5257800"/>
            <a:ext cx="14479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project and solutio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114440" y="4647960"/>
            <a:ext cx="3352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18288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84480" y="1793880"/>
            <a:ext cx="4776840" cy="410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1219320"/>
            <a:ext cx="67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 with updated project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800600"/>
            <a:ext cx="1524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pro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676520" y="495288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3962520"/>
            <a:ext cx="1752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project and solutio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267080"/>
            <a:ext cx="3200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5334120"/>
            <a:ext cx="1218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400440" y="4952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6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6:56:53Z</dcterms:created>
  <dc:creator>Eric Winokur</dc:creator>
  <dc:description/>
  <dc:language>en-US</dc:language>
  <cp:lastModifiedBy>Pearson Education</cp:lastModifiedBy>
  <dcterms:modified xsi:type="dcterms:W3CDTF">2004-10-11T14:10:22Z</dcterms:modified>
  <cp:revision>223</cp:revision>
  <dc:subject/>
  <dc:title>Tutorial 2 - Welcome Application:  Introduction to C++ Programming</dc:title>
</cp:coreProperties>
</file>